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887FC-2339-4148-943D-D1FE6E81DB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CAF83-45FF-4331-B5D6-F54CCE87FF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ekend is about delivering growth within the Explorer sections and programme is just one of the ways in which you can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guably the most interesting and exciting way to help grow the section, but also one of the most challenging for a number of reason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t – whilst Explorers can’t attend, they will be able to sign up whilst they are in Explorers and it’s good to highlight there is a next step.</a:t>
            </a:r>
            <a:endParaRPr b="0" lang="en-US" sz="1200" spc="-1" strike="noStrike">
              <a:solidFill>
                <a:srgbClr val="000000"/>
              </a:solidFill>
              <a:latin typeface="Arial"/>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904E4-6965-4AC7-89A0-A61BF60406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verway – for the upper end of explorer age 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ink this should be pushed for those Exp who don’t get selected for Jamb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y opinion it offers a richer experience as they are forced to be more independent and integrate with Scouts from othe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well known or advertised so make sure you keep an eye out for it!</a:t>
            </a:r>
            <a:endParaRPr b="0" lang="en-US" sz="1200" spc="-1" strike="noStrike">
              <a:solidFill>
                <a:srgbClr val="000000"/>
              </a:solidFill>
              <a:latin typeface="Arial"/>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FB30D-061F-43E4-AC55-D98BADA6FF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er Belt – fantastic way to offer international opportunities, but also a great way to recognise their achievement in completing such a challenging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y Jamborees – such a Danish Jambo, speak to Neil and Martin about this as they took Explorers from Macc &amp; C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you could organise your own camp abroad, there are a number of companies geared up to help you achieve this if you need the help.</a:t>
            </a:r>
            <a:endParaRPr b="0" lang="en-US" sz="1200" spc="-1" strike="noStrike">
              <a:solidFill>
                <a:srgbClr val="000000"/>
              </a:solidFill>
              <a:latin typeface="Arial"/>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63485-FF5A-4034-97DC-AC21C87BEB2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create a culture of achievement and recognising achievement within Chesh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gnition of what Explorers have done is tremendously important, especially as they near 18 with things such as UCAS applications, CVs and job interviews come 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wards we should be focusing on are Chief Scout Platinum &amp; Diamond, Explorer Belt, DoE and the initial stages of QSA as a minim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earch conducted by HQ has found they aren’t interested in getting an arm full of badges (although there are always exceptions).</a:t>
            </a:r>
            <a:endParaRPr b="0" lang="en-US" sz="1200" spc="-1" strike="noStrike">
              <a:solidFill>
                <a:srgbClr val="000000"/>
              </a:solidFill>
              <a:latin typeface="Arial"/>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A2290-0CDD-433D-9D6E-AC86DADE35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D947D-9D32-497B-8DFD-8709306314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416DA-6D39-4DA6-9F61-3C4E0F5158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 Programmes – what did they enjoy doing las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es Online – has pre-prepared activities and instr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es in a Box – fully planned evening available hopefully soon. For those nights when you’re really strugg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dicated Explorer Resources from HQ are hopefully coming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uting Magaz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s from other Units in your District and Cheshire – a lot of very good explorer leaders in the room, everyone must have some great activities.</a:t>
            </a: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9CE55-A402-4CF7-BEEB-E04902FFF3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0954A-7F91-4356-84B7-7919C4A975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feeder Scout Troops are the easiest way to bolster your Exp numbers. But you need to attract them! It’s so important that you build strong relationships with these Tro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important to have strong links with your local Network – this can help Explorers to see that there is a next step and that Scouting doesn’t end at 18. This may help encourage them to stay in Explorers.</a:t>
            </a: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C1C17-7197-47AB-8F64-ABA520E44F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ike to leave you with one final th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we have to explain and try to convince 14 to 18 year olds why they should join Explo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n’t it be great if we could get to the point where 14 – 18 years olds think, why the hell </a:t>
            </a:r>
            <a:r>
              <a:rPr b="1" lang="en-US" sz="1200" spc="-1" strike="noStrike">
                <a:solidFill>
                  <a:srgbClr val="000000"/>
                </a:solidFill>
                <a:latin typeface="Arial"/>
              </a:rPr>
              <a:t>wouldn’t</a:t>
            </a:r>
            <a:r>
              <a:rPr b="0" lang="en-US" sz="1200" spc="-1" strike="noStrike">
                <a:solidFill>
                  <a:srgbClr val="000000"/>
                </a:solidFill>
                <a:latin typeface="Arial"/>
              </a:rPr>
              <a:t> I join Explorers?</a:t>
            </a: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8FBCF-FCDF-415C-BE99-4A7CFCEF24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ost of you will know, you can’t run a Scout programme at Explorers, it needs to be a step up, otherwise why bother coming for the same thing for another 4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nture – lots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ncredibly important that we recognise the achievement of young people. It helps make them feel what they are doing is worth wh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 should be youth led in partnership with adults – this is the TSA vision of what Scouting should be in 20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d – whilst it’s important to have adventure and outdoor activities in the programme, a balance must be stru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all had those nights where we turn up and think, I’d really rather not be here tonight. You are completely entitles to have nights like this. But it is so important that you enjoy what you’re doing as your enthusiasm, passion and encouragement will show through and is infectious!</a:t>
            </a:r>
            <a:endParaRPr b="0" lang="en-US" sz="1200" spc="-1" strike="noStrike">
              <a:solidFill>
                <a:srgbClr val="000000"/>
              </a:solidFill>
              <a:latin typeface="Arial"/>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2850D-ADC9-4CFD-8AFD-8B41CF2B29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uting on steroids!!! It needs to be harder than Scouts and it needs to appear b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iling, rock climbing, canoeing etc. These are the big activites which really showcase sco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ping – young people love camping! So lets offer them the opport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y &amp; National events – these are covered in a later session, but certainly offer another angle for your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 in my opinion, one of the top reasons to join Scou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need to do more activities independently, it helps them take responsibility and also value what they are do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n’t children anymore, Explorers need mental stimulation, particularly the older Explorers</a:t>
            </a:r>
            <a:endParaRPr b="0" lang="en-US" sz="1200" spc="-1" strike="noStrike">
              <a:solidFill>
                <a:srgbClr val="000000"/>
              </a:solidFill>
              <a:latin typeface="Arial"/>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0CB56-344C-4E0E-9E9F-78F2B274BB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 Camps – great way to help develop young people, away from home and their pa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ol style camps provide the opportunity for Explorers to plan and lead their own ca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have a mixture of ages ranges so that you have responsible older Ex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 without leaders being their most of the time, can be achieved through the even passport sc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DF770-915B-42D8-B009-992B00275C3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1066680" y="2437920"/>
            <a:ext cx="69343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1066680" y="4030200"/>
            <a:ext cx="69343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10666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198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1066680" y="403020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5"/>
          <p:cNvSpPr>
            <a:spLocks noGrp="1"/>
          </p:cNvSpPr>
          <p:nvPr>
            <p:ph/>
          </p:nvPr>
        </p:nvSpPr>
        <p:spPr>
          <a:xfrm>
            <a:off x="4619880" y="403020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1066680" y="243792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3411360" y="243792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5756040" y="243792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1066680" y="403020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6"/>
          <p:cNvSpPr>
            <a:spLocks noGrp="1"/>
          </p:cNvSpPr>
          <p:nvPr>
            <p:ph/>
          </p:nvPr>
        </p:nvSpPr>
        <p:spPr>
          <a:xfrm>
            <a:off x="3411360" y="403020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7"/>
          <p:cNvSpPr>
            <a:spLocks noGrp="1"/>
          </p:cNvSpPr>
          <p:nvPr>
            <p:ph/>
          </p:nvPr>
        </p:nvSpPr>
        <p:spPr>
          <a:xfrm>
            <a:off x="5756040" y="403020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1066680" y="2437920"/>
            <a:ext cx="6934320" cy="3048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1066680" y="2437920"/>
            <a:ext cx="693432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1066680" y="2437920"/>
            <a:ext cx="338364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3"/>
          <p:cNvSpPr>
            <a:spLocks noGrp="1"/>
          </p:cNvSpPr>
          <p:nvPr>
            <p:ph/>
          </p:nvPr>
        </p:nvSpPr>
        <p:spPr>
          <a:xfrm>
            <a:off x="4619880" y="2437920"/>
            <a:ext cx="338364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66680" y="1905120"/>
            <a:ext cx="693432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10666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19880" y="2437920"/>
            <a:ext cx="338364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4"/>
          <p:cNvSpPr>
            <a:spLocks noGrp="1"/>
          </p:cNvSpPr>
          <p:nvPr>
            <p:ph/>
          </p:nvPr>
        </p:nvSpPr>
        <p:spPr>
          <a:xfrm>
            <a:off x="1066680" y="403020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1066680" y="2437920"/>
            <a:ext cx="338364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198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619880" y="403020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10666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198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1066680" y="4030200"/>
            <a:ext cx="69343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1905120"/>
            <a:ext cx="6934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
        <p:nvSpPr>
          <p:cNvPr id="1" name="PlaceHolder 2"/>
          <p:cNvSpPr>
            <a:spLocks noGrp="1"/>
          </p:cNvSpPr>
          <p:nvPr>
            <p:ph type="body"/>
          </p:nvPr>
        </p:nvSpPr>
        <p:spPr>
          <a:xfrm>
            <a:off x="1066680" y="2437920"/>
            <a:ext cx="6934320" cy="30481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5196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mailto:hannah.lapworth@cheshirescouts.org.uk"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4000" y="1268280"/>
            <a:ext cx="7559640" cy="432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Workshop 3</a:t>
            </a:r>
            <a:br>
              <a:rPr sz="3600"/>
            </a:br>
            <a:br>
              <a:rPr sz="3600"/>
            </a:br>
            <a:r>
              <a:rPr b="1" lang="en-GB" sz="3600" spc="-1" strike="noStrike">
                <a:solidFill>
                  <a:srgbClr val="000000"/>
                </a:solidFill>
                <a:latin typeface="Verdana"/>
              </a:rPr>
              <a:t>Programme Writing to Support Growth in Scouting</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national</a:t>
            </a:r>
            <a:endParaRPr b="0" lang="en-US" sz="2800" spc="-1" strike="noStrike">
              <a:solidFill>
                <a:srgbClr val="000000"/>
              </a:solidFill>
              <a:latin typeface="Verdana"/>
            </a:endParaRPr>
          </a:p>
        </p:txBody>
      </p:sp>
      <p:sp>
        <p:nvSpPr>
          <p:cNvPr id="65" name=""/>
          <p:cNvSpPr txBox="1"/>
          <p:nvPr/>
        </p:nvSpPr>
        <p:spPr>
          <a:xfrm>
            <a:off x="1066680" y="2437920"/>
            <a:ext cx="6934320" cy="30481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mboree</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pan 2015</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 14 – 17</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ed places</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ot</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eland 2017</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 18 – 25</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nce they leave Explor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65">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65">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65">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5">
                                            <p:txEl>
                                              <p:pRg st="4" end="4"/>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65">
                                            <p:txEl>
                                              <p:pRg st="5" end="5"/>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65">
                                            <p:txEl>
                                              <p:pRg st="6" end="6"/>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6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national</a:t>
            </a:r>
            <a:endParaRPr b="0" lang="en-US" sz="2800" spc="-1" strike="noStrike">
              <a:solidFill>
                <a:srgbClr val="000000"/>
              </a:solidFill>
              <a:latin typeface="Verdana"/>
            </a:endParaRPr>
          </a:p>
        </p:txBody>
      </p:sp>
      <p:sp>
        <p:nvSpPr>
          <p:cNvPr id="67" name=""/>
          <p:cNvSpPr txBox="1"/>
          <p:nvPr/>
        </p:nvSpPr>
        <p:spPr>
          <a:xfrm>
            <a:off x="1066680" y="2437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verwa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nce 2016</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 16 – 22</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be used for those who don’t get selected for Jambore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her experie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well known or advertised so look out for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67">
                                            <p:txEl>
                                              <p:pRg st="0" end="0"/>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7">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67">
                                            <p:txEl>
                                              <p:pRg st="2" end="2"/>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67">
                                            <p:txEl>
                                              <p:pRg st="3" end="3"/>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7">
                                            <p:txEl>
                                              <p:pRg st="4" end="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national</a:t>
            </a:r>
            <a:endParaRPr b="0" lang="en-US" sz="2800" spc="-1" strike="noStrike">
              <a:solidFill>
                <a:srgbClr val="000000"/>
              </a:solidFill>
              <a:latin typeface="Verdana"/>
            </a:endParaRPr>
          </a:p>
        </p:txBody>
      </p:sp>
      <p:sp>
        <p:nvSpPr>
          <p:cNvPr id="69" name=""/>
          <p:cNvSpPr txBox="1"/>
          <p:nvPr/>
        </p:nvSpPr>
        <p:spPr>
          <a:xfrm>
            <a:off x="1066680" y="2437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er Bel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ry Jambore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se your own camp abroad? Jeka, Travel Places can help you</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69">
                                            <p:txEl>
                                              <p:pRg st="0" end="0"/>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69">
                                            <p:txEl>
                                              <p:pRg st="1" end="1"/>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69">
                                            <p:txEl>
                                              <p:pRg st="2" end="2"/>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chievements = Awards</a:t>
            </a:r>
            <a:endParaRPr b="0" lang="en-US" sz="2800" spc="-1" strike="noStrike">
              <a:solidFill>
                <a:srgbClr val="000000"/>
              </a:solidFill>
              <a:latin typeface="Verdana"/>
            </a:endParaRPr>
          </a:p>
        </p:txBody>
      </p:sp>
      <p:sp>
        <p:nvSpPr>
          <p:cNvPr id="71" name=""/>
          <p:cNvSpPr txBox="1"/>
          <p:nvPr/>
        </p:nvSpPr>
        <p:spPr>
          <a:xfrm>
            <a:off x="1066680" y="2437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e of achiev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for their future (UCAS, CVs,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should be 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ef Scout Platinum &amp; Diamon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er Bel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SA (initial stages as a </a:t>
            </a:r>
            <a:r>
              <a:rPr b="0" lang="en-US" sz="2000" spc="-1" strike="noStrike" u="sng">
                <a:solidFill>
                  <a:srgbClr val="000000"/>
                </a:solidFill>
                <a:uFillTx/>
                <a:latin typeface="Arial"/>
              </a:rPr>
              <a:t>minimum</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71">
                                            <p:txEl>
                                              <p:pRg st="2" end="2"/>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71">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71">
                                            <p:txEl>
                                              <p:pRg st="4" end="4"/>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71">
                                            <p:txEl>
                                              <p:pRg st="5" end="5"/>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480"/>
            <a:ext cx="7772400" cy="295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How do we push the awards more and further integrate them in our programmes?</a:t>
            </a:r>
            <a:endParaRPr b="0" lang="en-US" sz="4400" spc="-1" strike="noStrike">
              <a:solidFill>
                <a:srgbClr val="000000"/>
              </a:solidFill>
              <a:latin typeface="Verdana"/>
            </a:endParaRPr>
          </a:p>
        </p:txBody>
      </p:sp>
      <p:sp>
        <p:nvSpPr>
          <p:cNvPr id="73" name="TextBox 4"/>
          <p:cNvSpPr/>
          <p:nvPr/>
        </p:nvSpPr>
        <p:spPr>
          <a:xfrm>
            <a:off x="684360" y="1887480"/>
            <a:ext cx="244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042920" y="184464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Task 3 Outcomes – Integrating awards into our programmes</a:t>
            </a:r>
            <a:endParaRPr b="0" lang="en-US" sz="2400" spc="-1" strike="noStrike">
              <a:solidFill>
                <a:srgbClr val="000000"/>
              </a:solidFill>
              <a:latin typeface="Verdana"/>
            </a:endParaRPr>
          </a:p>
        </p:txBody>
      </p:sp>
      <p:sp>
        <p:nvSpPr>
          <p:cNvPr id="75" name=""/>
          <p:cNvSpPr txBox="1"/>
          <p:nvPr/>
        </p:nvSpPr>
        <p:spPr>
          <a:xfrm>
            <a:off x="755280" y="2492280"/>
            <a:ext cx="3600360" cy="38894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ve good access to resources and Leaders with nights away permit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t realistic target dat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ld award planning meeting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list parents to help administrate the awards. Might be happy to come down to a Unit night once a month and update the record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Keep it simp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Know who to go to for awards help/advice</a:t>
            </a:r>
            <a:endParaRPr b="0" lang="en-US" sz="16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
          <p:cNvSpPr txBox="1"/>
          <p:nvPr/>
        </p:nvSpPr>
        <p:spPr>
          <a:xfrm>
            <a:off x="4284720" y="2492280"/>
            <a:ext cx="4464000" cy="38894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ld an EDofE update meeting and invite participants to attend and sit at computers to update their records with your help</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me Districts have a separate Unit who just deal with awards expedition advice and plannin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sure Explorers know expeditions don’t have just be “walkin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corporate training into the programm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sh “Doing the Scout Awards and getting DofE for fre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light what you get out of the award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courage Explorers to share good awards presentations with the rest of their Un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th led in partnership with adults</a:t>
            </a:r>
            <a:endParaRPr b="0" lang="en-US" sz="2800" spc="-1" strike="noStrike">
              <a:solidFill>
                <a:srgbClr val="000000"/>
              </a:solidFill>
              <a:latin typeface="Verdana"/>
            </a:endParaRPr>
          </a:p>
        </p:txBody>
      </p:sp>
      <p:sp>
        <p:nvSpPr>
          <p:cNvPr id="78" name=""/>
          <p:cNvSpPr txBox="1"/>
          <p:nvPr/>
        </p:nvSpPr>
        <p:spPr>
          <a:xfrm>
            <a:off x="1066680" y="2437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 over to Kar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5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How can we make our programme youth led?</a:t>
            </a:r>
            <a:endParaRPr b="0" lang="en-US" sz="4000" spc="-1" strike="noStrike">
              <a:solidFill>
                <a:srgbClr val="000000"/>
              </a:solidFill>
              <a:latin typeface="Verdana"/>
            </a:endParaRPr>
          </a:p>
        </p:txBody>
      </p:sp>
      <p:sp>
        <p:nvSpPr>
          <p:cNvPr id="80" name="TextBox 4"/>
          <p:cNvSpPr/>
          <p:nvPr/>
        </p:nvSpPr>
        <p:spPr>
          <a:xfrm>
            <a:off x="684360" y="1887480"/>
            <a:ext cx="244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971640" y="1773360"/>
            <a:ext cx="768168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Task 4 Outcomes – Youth Led Programme</a:t>
            </a:r>
            <a:endParaRPr b="0" lang="en-US" sz="2400" spc="-1" strike="noStrike">
              <a:solidFill>
                <a:srgbClr val="000000"/>
              </a:solidFill>
              <a:latin typeface="Verdana"/>
            </a:endParaRPr>
          </a:p>
        </p:txBody>
      </p:sp>
      <p:sp>
        <p:nvSpPr>
          <p:cNvPr id="82" name=""/>
          <p:cNvSpPr txBox="1"/>
          <p:nvPr/>
        </p:nvSpPr>
        <p:spPr>
          <a:xfrm>
            <a:off x="1066680" y="2204640"/>
            <a:ext cx="3391200" cy="374508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ve a Unit Exec to work with Leaders to decide the direction of the Unit</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volve them in costing so they can see why some activities may be picked over others etc</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tilise all age groups so that your whole Explorer planning team doesn’t turn 18 and leave so you’re back to square one</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n’t be afraid to let them learn through failure</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ive ideas to support them to cover all programme areas – keep it balanced</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
          <p:cNvSpPr txBox="1"/>
          <p:nvPr/>
        </p:nvSpPr>
        <p:spPr>
          <a:xfrm>
            <a:off x="4610160" y="2204640"/>
            <a:ext cx="4209840" cy="3745080"/>
          </a:xfrm>
          <a:prstGeom prst="rect">
            <a:avLst/>
          </a:prstGeom>
          <a:noFill/>
          <a:ln w="0">
            <a:noFill/>
          </a:ln>
        </p:spPr>
        <p:txBody>
          <a:bodyPr anchor="t">
            <a:normAutofit fontScale="92000"/>
          </a:bodyPr>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ir up experienced/inexperienced Explorers to plan things together</a:t>
            </a:r>
            <a:endParaRPr b="0" lang="en-US" sz="1600" spc="-1" strike="noStrike">
              <a:solidFill>
                <a:srgbClr val="000000"/>
              </a:solidFill>
              <a:latin typeface="Arial"/>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ve a can do attitude and encourage it in others</a:t>
            </a:r>
            <a:endParaRPr b="0" lang="en-US" sz="1600" spc="-1" strike="noStrike">
              <a:solidFill>
                <a:srgbClr val="000000"/>
              </a:solidFill>
              <a:latin typeface="Arial"/>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 mentoring and coaching</a:t>
            </a:r>
            <a:endParaRPr b="0" lang="en-US" sz="1600" spc="-1" strike="noStrike">
              <a:solidFill>
                <a:srgbClr val="000000"/>
              </a:solidFill>
              <a:latin typeface="Arial"/>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ke small progressive changes to your Unit, things aren’t all going to change at once. Provide the Explorers with the opportunity to take over and start running activities</a:t>
            </a:r>
            <a:endParaRPr b="0" lang="en-US" sz="1600" spc="-1" strike="noStrike">
              <a:solidFill>
                <a:srgbClr val="000000"/>
              </a:solidFill>
              <a:latin typeface="Arial"/>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lay to their strengths</a:t>
            </a:r>
            <a:endParaRPr b="0" lang="en-US" sz="1600" spc="-1" strike="noStrike">
              <a:solidFill>
                <a:srgbClr val="000000"/>
              </a:solidFill>
              <a:latin typeface="Arial"/>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cycle the system so they can do research and reuse material/resources</a:t>
            </a:r>
            <a:endParaRPr b="0" lang="en-US" sz="1600" spc="-1" strike="noStrike">
              <a:solidFill>
                <a:srgbClr val="000000"/>
              </a:solidFill>
              <a:latin typeface="Arial"/>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k them to volunteer to run something, you’ll be surprised at how many are keen!</a:t>
            </a:r>
            <a:endParaRPr b="0" lang="en-US" sz="1600" spc="-1" strike="noStrike">
              <a:solidFill>
                <a:srgbClr val="000000"/>
              </a:solidFill>
              <a:latin typeface="Arial"/>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lanced</a:t>
            </a:r>
            <a:r>
              <a:rPr b="0" lang="nl-NL" sz="2800" spc="-1" strike="noStrike">
                <a:solidFill>
                  <a:srgbClr val="000000"/>
                </a:solidFill>
                <a:latin typeface="Verdana"/>
              </a:rPr>
              <a:t> Programme</a:t>
            </a:r>
            <a:endParaRPr b="0" lang="en-US" sz="2800" spc="-1" strike="noStrike">
              <a:solidFill>
                <a:srgbClr val="000000"/>
              </a:solidFill>
              <a:latin typeface="Verdana"/>
            </a:endParaRPr>
          </a:p>
        </p:txBody>
      </p:sp>
      <p:sp>
        <p:nvSpPr>
          <p:cNvPr id="85" name=""/>
          <p:cNvSpPr txBox="1"/>
          <p:nvPr/>
        </p:nvSpPr>
        <p:spPr>
          <a:xfrm>
            <a:off x="1066680" y="2437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offer a programme which is attractive to all 14 – 18 year ol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of them enjoy the outdoor activities as much as oth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verview</a:t>
            </a:r>
            <a:endParaRPr b="0" lang="en-US" sz="2800" spc="-1" strike="noStrike">
              <a:solidFill>
                <a:srgbClr val="000000"/>
              </a:solidFill>
              <a:latin typeface="Verdana"/>
            </a:endParaRPr>
          </a:p>
        </p:txBody>
      </p:sp>
      <p:sp>
        <p:nvSpPr>
          <p:cNvPr id="47" name=""/>
          <p:cNvSpPr txBox="1"/>
          <p:nvPr/>
        </p:nvSpPr>
        <p:spPr>
          <a:xfrm>
            <a:off x="1066680" y="2437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an irresistible programme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we deliver an irresistible program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resources are available to support yo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we better share programme ideas and resources in Chesh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480"/>
            <a:ext cx="7772400" cy="295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What tools are available to assist leaders in creating an irresistible programm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ools available</a:t>
            </a:r>
            <a:endParaRPr b="0" lang="en-US" sz="2800" spc="-1" strike="noStrike">
              <a:solidFill>
                <a:srgbClr val="000000"/>
              </a:solidFill>
              <a:latin typeface="Verdana"/>
            </a:endParaRPr>
          </a:p>
        </p:txBody>
      </p:sp>
      <p:sp>
        <p:nvSpPr>
          <p:cNvPr id="88" name=""/>
          <p:cNvSpPr txBox="1"/>
          <p:nvPr/>
        </p:nvSpPr>
        <p:spPr>
          <a:xfrm>
            <a:off x="1066680" y="2437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ous Program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s On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s in a Box (hopefully so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uting Magaz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s from other Units in your District and Chesh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480"/>
            <a:ext cx="7772400" cy="216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How do we better share programme resources within Cheshire?</a:t>
            </a:r>
            <a:endParaRPr b="0" lang="en-US" sz="4000" spc="-1" strike="noStrike">
              <a:solidFill>
                <a:srgbClr val="000000"/>
              </a:solidFill>
              <a:latin typeface="Verdana"/>
            </a:endParaRPr>
          </a:p>
        </p:txBody>
      </p:sp>
      <p:sp>
        <p:nvSpPr>
          <p:cNvPr id="90" name="TextBox 4"/>
          <p:cNvSpPr/>
          <p:nvPr/>
        </p:nvSpPr>
        <p:spPr>
          <a:xfrm>
            <a:off x="684360" y="1887480"/>
            <a:ext cx="244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1916280"/>
            <a:ext cx="75391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Task 5 Outcomes – Sharing programme resources in Cheshire</a:t>
            </a:r>
            <a:endParaRPr b="0" lang="en-US" sz="2400" spc="-1" strike="noStrike">
              <a:solidFill>
                <a:srgbClr val="000000"/>
              </a:solidFill>
              <a:latin typeface="Verdana"/>
            </a:endParaRPr>
          </a:p>
        </p:txBody>
      </p:sp>
      <p:sp>
        <p:nvSpPr>
          <p:cNvPr id="92" name=""/>
          <p:cNvSpPr txBox="1"/>
          <p:nvPr/>
        </p:nvSpPr>
        <p:spPr>
          <a:xfrm>
            <a:off x="1187280" y="2491920"/>
            <a:ext cx="6934320" cy="3745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 Dropbox – email </a:t>
            </a:r>
            <a:r>
              <a:rPr b="0" lang="en-GB" sz="1800" spc="-1" strike="noStrike" u="sng">
                <a:solidFill>
                  <a:srgbClr val="009999"/>
                </a:solidFill>
                <a:uFillTx/>
                <a:latin typeface="Arial"/>
                <a:hlinkClick r:id="rId1"/>
              </a:rPr>
              <a:t>hannah.lapworth@cheshirescouts.org.uk</a:t>
            </a:r>
            <a:r>
              <a:rPr b="0" lang="en-GB" sz="1800" spc="-1" strike="noStrike">
                <a:solidFill>
                  <a:srgbClr val="000000"/>
                </a:solidFill>
                <a:latin typeface="Arial"/>
              </a:rPr>
              <a:t> to request access (password protect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are Useful Contacts list for activities etc to utilise available businesses/venues/campsit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line Scout Manager has a programme sharing option, hopefully will be developed into the Project Compass – the new Scout database system being launched so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ums / messageboar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heshire Explorer Leader Team” Facebook group – request access directly from the group onlin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rther Explorer Leader weekends to learn from eachoth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lk to each other </a:t>
            </a:r>
            <a:r>
              <a:rPr b="0" lang="en-GB" sz="1800" spc="-1" strike="noStrike">
                <a:solidFill>
                  <a:srgbClr val="000000"/>
                </a:solidFill>
                <a:latin typeface="Wingdings"/>
                <a:ea typeface="Wingding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other things to think about…</a:t>
            </a:r>
            <a:endParaRPr b="0" lang="en-US" sz="2800" spc="-1" strike="noStrike">
              <a:solidFill>
                <a:srgbClr val="000000"/>
              </a:solidFill>
              <a:latin typeface="Verdana"/>
            </a:endParaRPr>
          </a:p>
        </p:txBody>
      </p:sp>
      <p:sp>
        <p:nvSpPr>
          <p:cNvPr id="94" name=""/>
          <p:cNvSpPr txBox="1"/>
          <p:nvPr/>
        </p:nvSpPr>
        <p:spPr>
          <a:xfrm>
            <a:off x="1066680" y="2437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ing In (Scou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ing On (Net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ap</a:t>
            </a:r>
            <a:endParaRPr b="0" lang="en-US" sz="2800" spc="-1" strike="noStrike">
              <a:solidFill>
                <a:srgbClr val="000000"/>
              </a:solidFill>
              <a:latin typeface="Verdana"/>
            </a:endParaRPr>
          </a:p>
        </p:txBody>
      </p:sp>
      <p:sp>
        <p:nvSpPr>
          <p:cNvPr id="96" name=""/>
          <p:cNvSpPr txBox="1"/>
          <p:nvPr/>
        </p:nvSpPr>
        <p:spPr>
          <a:xfrm>
            <a:off x="1066680" y="2437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n irresistible programm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llenging Adventure through bigger and tougher activities and experien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hievement through Awar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th Led to drive a sense of independe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ed so that it appeals to every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2920" y="1773360"/>
            <a:ext cx="6934320" cy="361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Verdana"/>
              </a:rPr>
              <a:t>Questions?</a:t>
            </a:r>
            <a:endParaRPr b="0" lang="en-US" sz="4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223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Verdana"/>
              </a:rPr>
              <a:t>What does an irresistible programme look like?</a:t>
            </a:r>
            <a:endParaRPr b="0" lang="en-US" sz="4500" spc="-1" strike="noStrike">
              <a:solidFill>
                <a:srgbClr val="000000"/>
              </a:solidFill>
              <a:latin typeface="Verdana"/>
            </a:endParaRPr>
          </a:p>
        </p:txBody>
      </p:sp>
      <p:sp>
        <p:nvSpPr>
          <p:cNvPr id="49" name="TextBox 3"/>
          <p:cNvSpPr/>
          <p:nvPr/>
        </p:nvSpPr>
        <p:spPr>
          <a:xfrm>
            <a:off x="684360" y="1887480"/>
            <a:ext cx="244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1844640"/>
            <a:ext cx="7705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Task 1 Outcomes – An irresistible programme...</a:t>
            </a:r>
            <a:endParaRPr b="0" lang="en-US" sz="2400" spc="-1" strike="noStrike">
              <a:solidFill>
                <a:srgbClr val="000000"/>
              </a:solidFill>
              <a:latin typeface="Verdana"/>
            </a:endParaRPr>
          </a:p>
        </p:txBody>
      </p:sp>
      <p:sp>
        <p:nvSpPr>
          <p:cNvPr id="51" name=""/>
          <p:cNvSpPr txBox="1"/>
          <p:nvPr/>
        </p:nvSpPr>
        <p:spPr>
          <a:xfrm>
            <a:off x="1115640" y="2491920"/>
            <a:ext cx="3390840" cy="3745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balanc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shes them out of their comfort zon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s their skills and confide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challeng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cognises and celebrates their achieve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cilitates them running their own activiti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ets the Explorers needs and expectations</a:t>
            </a:r>
            <a:endParaRPr b="0" lang="en-US" sz="1800" spc="-1" strike="noStrike">
              <a:solidFill>
                <a:srgbClr val="000000"/>
              </a:solidFill>
              <a:latin typeface="Arial"/>
            </a:endParaRPr>
          </a:p>
        </p:txBody>
      </p:sp>
      <p:sp>
        <p:nvSpPr>
          <p:cNvPr id="52" name=""/>
          <p:cNvSpPr txBox="1"/>
          <p:nvPr/>
        </p:nvSpPr>
        <p:spPr>
          <a:xfrm>
            <a:off x="4571640" y="2491920"/>
            <a:ext cx="3490920" cy="3745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suggested/organised by the Explorers themselv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bines both indoor and outdoor activiti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intere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FU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varied to keep their interes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review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vides “society skill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ts them BE EXPLORER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does an irresistible programme look like?</a:t>
            </a:r>
            <a:endParaRPr b="0" lang="en-US" sz="2000" spc="-1" strike="noStrike">
              <a:solidFill>
                <a:srgbClr val="000000"/>
              </a:solidFill>
              <a:latin typeface="Verdana"/>
            </a:endParaRPr>
          </a:p>
        </p:txBody>
      </p:sp>
      <p:sp>
        <p:nvSpPr>
          <p:cNvPr id="54" name=""/>
          <p:cNvSpPr txBox="1"/>
          <p:nvPr/>
        </p:nvSpPr>
        <p:spPr>
          <a:xfrm>
            <a:off x="1066680" y="2437920"/>
            <a:ext cx="6934320" cy="3048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ing Adven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th led in </a:t>
            </a:r>
            <a:r>
              <a:rPr b="1" lang="en-US" sz="2800" spc="-1" strike="noStrike" u="sng">
                <a:solidFill>
                  <a:srgbClr val="000000"/>
                </a:solidFill>
                <a:uFillTx/>
                <a:latin typeface="Arial"/>
              </a:rPr>
              <a:t>partnership</a:t>
            </a:r>
            <a:r>
              <a:rPr b="0" lang="en-US" sz="2800" spc="-1" strike="noStrike">
                <a:solidFill>
                  <a:srgbClr val="000000"/>
                </a:solidFill>
                <a:latin typeface="Arial"/>
              </a:rPr>
              <a:t> with adul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 for the leaders &amp; ad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5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How do we deliver an irresistible programme?</a:t>
            </a:r>
            <a:endParaRPr b="0" lang="en-US" sz="4400" spc="-1" strike="noStrike">
              <a:solidFill>
                <a:srgbClr val="000000"/>
              </a:solidFill>
              <a:latin typeface="Verdana"/>
            </a:endParaRPr>
          </a:p>
        </p:txBody>
      </p:sp>
      <p:sp>
        <p:nvSpPr>
          <p:cNvPr id="56" name="TextBox 4"/>
          <p:cNvSpPr/>
          <p:nvPr/>
        </p:nvSpPr>
        <p:spPr>
          <a:xfrm>
            <a:off x="684360" y="1887480"/>
            <a:ext cx="244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184464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Task 2 Outcomes – How we deliver an irresistible programme...</a:t>
            </a:r>
            <a:endParaRPr b="0" lang="en-US" sz="2400" spc="-1" strike="noStrike">
              <a:solidFill>
                <a:srgbClr val="000000"/>
              </a:solidFill>
              <a:latin typeface="Verdana"/>
            </a:endParaRPr>
          </a:p>
        </p:txBody>
      </p:sp>
      <p:sp>
        <p:nvSpPr>
          <p:cNvPr id="58" name=""/>
          <p:cNvSpPr txBox="1"/>
          <p:nvPr/>
        </p:nvSpPr>
        <p:spPr>
          <a:xfrm>
            <a:off x="1042560" y="2491920"/>
            <a:ext cx="3390840" cy="403236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other people who have specialist skills/knowledge to come into the Un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ive yourself adequate time to pla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reate a framework for your programme so all areas are being covere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lan, prepare, execute &amp; coa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ild on previous knowledg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ld regular Leader meeting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 progressive, not afraid of chang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
          <p:cNvSpPr txBox="1"/>
          <p:nvPr/>
        </p:nvSpPr>
        <p:spPr>
          <a:xfrm>
            <a:off x="4571640" y="2491920"/>
            <a:ext cx="3390840" cy="403236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liver on promis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ive the Explorers all the options/opportunities to let them select what they d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gage with the Explorer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 your resear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view the programme regularl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Fail in a controlled environment” – don’t be afraid to try new things, they might not work but if you prepare for all outcomes then if it doesn’t go to plan then you always have a Option B!</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llenging Adventure</a:t>
            </a:r>
            <a:endParaRPr b="0" lang="en-US" sz="2800" spc="-1" strike="noStrike">
              <a:solidFill>
                <a:srgbClr val="000000"/>
              </a:solidFill>
              <a:latin typeface="Verdana"/>
            </a:endParaRPr>
          </a:p>
        </p:txBody>
      </p:sp>
      <p:sp>
        <p:nvSpPr>
          <p:cNvPr id="61" name=""/>
          <p:cNvSpPr txBox="1"/>
          <p:nvPr/>
        </p:nvSpPr>
        <p:spPr>
          <a:xfrm>
            <a:off x="1066680" y="2437920"/>
            <a:ext cx="6934320" cy="30481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ger (and tougher) is better!</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enturous Activiti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ping</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y &amp; National Event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ce</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tal Stim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61">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1">
                                            <p:txEl>
                                              <p:pRg st="5" end="5"/>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mping</a:t>
            </a:r>
            <a:endParaRPr b="0" lang="en-US" sz="2800" spc="-1" strike="noStrike">
              <a:solidFill>
                <a:srgbClr val="000000"/>
              </a:solidFill>
              <a:latin typeface="Verdana"/>
            </a:endParaRPr>
          </a:p>
        </p:txBody>
      </p:sp>
      <p:sp>
        <p:nvSpPr>
          <p:cNvPr id="63" name=""/>
          <p:cNvSpPr txBox="1"/>
          <p:nvPr/>
        </p:nvSpPr>
        <p:spPr>
          <a:xfrm>
            <a:off x="1066680" y="2437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er Cam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rol Style Camp</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 planned and ra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xture of age rang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out leaders most of the ti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event passport sc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63">
                                            <p:txEl>
                                              <p:pRg st="1" end="1"/>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63">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3">
                                            <p:txEl>
                                              <p:pRg st="3" end="3"/>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3">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13:26:03Z</dcterms:created>
  <dc:creator>Office 2004 Test Drive User</dc:creator>
  <dc:description/>
  <dc:language>en-US</dc:language>
  <cp:lastModifiedBy>hlapworth</cp:lastModifiedBy>
  <dcterms:modified xsi:type="dcterms:W3CDTF">2013-03-06T14:18:08Z</dcterms:modified>
  <cp:revision>205</cp:revision>
  <dc:subject/>
  <dc:title>Your title here</dc:title>
</cp:coreProperties>
</file>